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7A90-D9CD-47C8-BD11-705079296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9FB9-A524-4673-A00A-7DFDCFA39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1A43-4D0C-455A-933A-036CC0240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81EF-F5DA-4575-9A2B-AE396F0C0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8FB3-0710-45D2-8F25-BED8C83AF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4E15-3DD1-4EB4-939B-D3B69EC8D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EA9E-B572-4A7F-8B37-550D9CA74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69B7-9BD1-4B0D-ACED-075A72E1E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C960-4BDA-4126-9AF9-E797622C4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C43F-089C-4EE5-9BAE-D728774A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8C6B-BA29-40ED-B52F-06A33F62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3684-2D6A-4395-A6E7-D092C71C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2f75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0AE17-98FA-4179-B872-C67769056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dw-world.de/dw/article/0,,3202143,00.html" TargetMode="External"/><Relationship Id="rId2" Type="http://schemas.openxmlformats.org/officeDocument/2006/relationships/hyperlink" Target="http://www.nytimes.com/2008/07/04/world/europe/04iht-germany.4.14247403.html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2f75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Berylium"/>
              </a:rPr>
              <a:t>Carbon Emissions 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Berylium"/>
              </a:rPr>
              <a:t>in Germany</a:t>
            </a:r>
            <a:r>
              <a:rPr b="0" lang="en-US" sz="4400" spc="-1" strike="noStrike">
                <a:solidFill>
                  <a:srgbClr val="000000"/>
                </a:solidFill>
                <a:latin typeface="Berylium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ylium"/>
              </a:rPr>
              <a:t>Fritzi Wittman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ylium"/>
              </a:rPr>
              <a:t>Quarter 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90920" y="2133720"/>
            <a:ext cx="4038480" cy="2687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2f75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w-world.de/dw/article/0,,3202143,00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nytimes.com/2008/07/04/world/europe/04iht-germany.4.14247403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2f75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erylium"/>
              </a:rPr>
              <a:t>Carbon Dioxide (CO</a:t>
            </a:r>
            <a:r>
              <a:rPr b="0" lang="en-US" sz="3800" spc="-1" strike="noStrike" baseline="-25000">
                <a:solidFill>
                  <a:srgbClr val="000000"/>
                </a:solidFill>
                <a:latin typeface="Berylium"/>
              </a:rPr>
              <a:t>2</a:t>
            </a:r>
            <a:r>
              <a:rPr b="0" lang="en-US" sz="3800" spc="-1" strike="noStrike">
                <a:solidFill>
                  <a:srgbClr val="000000"/>
                </a:solidFill>
                <a:latin typeface="Berylium"/>
              </a:rPr>
              <a:t>) Emiss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524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Berylium"/>
              </a:rPr>
              <a:t>The largest amount of human produced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Berylium"/>
              </a:rPr>
              <a:t>CO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Berylium"/>
              </a:rPr>
              <a:t>2 </a:t>
            </a:r>
            <a:r>
              <a:rPr b="0" lang="en-US" sz="2100" spc="-1" strike="noStrike">
                <a:solidFill>
                  <a:srgbClr val="000000"/>
                </a:solidFill>
                <a:latin typeface="Berylium"/>
              </a:rPr>
              <a:t>can be found in western Germany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24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Berylium"/>
              </a:rPr>
              <a:t>The region has always been a location of industry (Germany’s coal and steel region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524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Berylium"/>
              </a:rPr>
              <a:t>It is difficult to determine if the CO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Berylium"/>
              </a:rPr>
              <a:t>2 </a:t>
            </a:r>
            <a:r>
              <a:rPr b="0" lang="en-US" sz="2100" spc="-1" strike="noStrike">
                <a:solidFill>
                  <a:srgbClr val="000000"/>
                </a:solidFill>
                <a:latin typeface="Berylium"/>
              </a:rPr>
              <a:t>was produced in western Germany or was moved there naturally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524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Berylium"/>
              </a:rPr>
              <a:t>(CO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Berylium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Berylium"/>
              </a:rPr>
              <a:t>) levels are also affected by the seasons (In spring and summer the plants absorb the gas and the plants release their excess gas in fall and winter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524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Berylium"/>
              </a:rPr>
              <a:t>Germany is credited with having produced the only instrument in existence that is able to measure the levels of (CO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Berylium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Berylium"/>
              </a:rPr>
              <a:t>) close enough to the earth’s surface to ascertain the damage being done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2f75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47239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erylium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Berylium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Berylium"/>
              </a:rPr>
              <a:t>Using SCIAMACHY, the technology used to measure the (CO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Berylium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Berylium"/>
              </a:rPr>
              <a:t>) levels in Germany, researchers at the Bremen University collected their data over three years and created this image. Red indicates higher levels of (CO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Berylium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Berylium"/>
              </a:rPr>
              <a:t>), while blue and purple indicates low levels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Diagram showing CO2 concentrations in Europe"/>
          <p:cNvPicPr/>
          <p:nvPr/>
        </p:nvPicPr>
        <p:blipFill>
          <a:blip r:embed="rId1"/>
          <a:stretch/>
        </p:blipFill>
        <p:spPr>
          <a:xfrm>
            <a:off x="1371600" y="457200"/>
            <a:ext cx="617220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2f75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ylium"/>
              </a:rPr>
              <a:t>Government Particip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ylium"/>
              </a:rPr>
              <a:t>The German government passed a law whose aim is to lower green house gas emissions by doubling the amount of power supplied by renewable energy sour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ylium"/>
              </a:rPr>
              <a:t>Angela Merkel, who as environmental minister before she became chancellor, saw this as a vic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ylium"/>
              </a:rPr>
              <a:t>The main sources of energy under the new bill are solar and wind energ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ylium"/>
              </a:rPr>
              <a:t>4.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</a:t>
            </a:r>
            <a:r>
              <a:rPr b="0" lang="en-US" sz="2400" spc="-1" strike="noStrike">
                <a:solidFill>
                  <a:srgbClr val="000000"/>
                </a:solidFill>
                <a:latin typeface="Berylium"/>
              </a:rPr>
              <a:t> of the nations energy is produced by wind mills. Approximately 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</a:t>
            </a:r>
            <a:r>
              <a:rPr b="0" lang="en-US" sz="2400" spc="-1" strike="noStrike">
                <a:solidFill>
                  <a:srgbClr val="000000"/>
                </a:solidFill>
                <a:latin typeface="Berylium"/>
              </a:rPr>
              <a:t> of the nations energy is produced by solar or wind energ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ylium"/>
              </a:rPr>
              <a:t>Co-generation (the production of heat during the production of renewable energy) has also been converted to a source of energy in German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2f75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2742840"/>
            <a:ext cx="373392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ylium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erylium"/>
              </a:rPr>
              <a:t>Here are pictures of wind mills. These are the primary producers of renewable energy in Germany as there are over 21,000 wind mills in the coun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24803" b="0"/>
          <a:stretch/>
        </p:blipFill>
        <p:spPr>
          <a:xfrm>
            <a:off x="838080" y="457200"/>
            <a:ext cx="3581640" cy="20667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72000" y="457200"/>
            <a:ext cx="42102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2f75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ylium"/>
              </a:rPr>
              <a:t>Future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ylium"/>
              </a:rPr>
              <a:t>The current environmental minister, Sigmar Gabriel, hopes to reduce electricity use by 1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</a:t>
            </a:r>
            <a:r>
              <a:rPr b="0" lang="en-US" sz="2800" spc="-1" strike="noStrike">
                <a:solidFill>
                  <a:srgbClr val="000000"/>
                </a:solidFill>
                <a:latin typeface="Berylium"/>
              </a:rPr>
              <a:t> by 202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ylium"/>
              </a:rPr>
              <a:t>He is encouraging Germans to take the train more often to cut down on CO2 emis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ylium"/>
              </a:rPr>
              <a:t>He plans to reduce the amount of heat produced during energy production instead of allowing it to be released into the atmosp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ylium"/>
              </a:rPr>
              <a:t>This renovation of the German power system would cost over 3 million Euros. ($4.1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ylium"/>
              </a:rPr>
              <a:t>Gabriel says that if the rest of world does not follow in Germany’s footsteps their efforts will be for no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2f75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7847" t="0" r="0" b="0"/>
          <a:stretch/>
        </p:blipFill>
        <p:spPr>
          <a:xfrm>
            <a:off x="0" y="457200"/>
            <a:ext cx="3581280" cy="23320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320004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ylium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erylium"/>
              </a:rPr>
              <a:t>These are the trains that Gabriel is urging Germans to opt for instead of cars or airplanes as those modes of transportation release more greenhouse gass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638680" y="457200"/>
            <a:ext cx="3505320" cy="2336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895480" y="457200"/>
            <a:ext cx="350208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2f75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ylium"/>
              </a:rPr>
              <a:t>QUIZ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ylium"/>
              </a:rPr>
              <a:t>1)Which part of German produces the most amount of Carbon dioxi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ylium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erylium"/>
              </a:rPr>
              <a:t>a) The western part (indust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ylium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erylium"/>
              </a:rPr>
              <a:t>b) The south (agricultu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ylium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erylium"/>
              </a:rPr>
              <a:t>c) The north (ports and harbo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ylium"/>
              </a:rPr>
              <a:t>2) How much would it cost to create a more energy efficient German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ylium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erylium"/>
              </a:rPr>
              <a:t>a) 15 million eu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ylium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erylium"/>
              </a:rPr>
              <a:t>b) 3 million eu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ylium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erylium"/>
              </a:rPr>
              <a:t>c) 1 million eur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2f75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ylium"/>
              </a:rPr>
              <a:t>Answer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ylium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ylium"/>
              </a:rPr>
              <a:t>The western, industrial part of Germany prodcues the most CO2 in German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ylium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ylium"/>
              </a:rPr>
              <a:t>The energy efficiency plans would cost about 3 million euros ($4.1 mill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8T12:49:21Z</dcterms:created>
  <dc:creator>SCSadmin</dc:creator>
  <dc:description/>
  <dc:language>en-US</dc:language>
  <cp:lastModifiedBy>SCSadmin</cp:lastModifiedBy>
  <dcterms:modified xsi:type="dcterms:W3CDTF">2012-01-25T12:34:35Z</dcterms:modified>
  <cp:revision>3</cp:revision>
  <dc:subject/>
  <dc:title>Carbon Emissions  in Germany </dc:title>
</cp:coreProperties>
</file>